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2E53-9DEB-4476-851D-264E59683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8191-6D3E-41DD-919C-B4462CF62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79B8-F727-4D35-9078-17A647C6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7471-214A-480A-BBD2-F57B9400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6D17-E6DA-479D-9DE8-2BB33222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F943-B05C-44DE-86D9-A21E57EF1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9947-8985-4B30-90A2-9D1082042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D69D-B8C3-4713-894E-687ECEBD1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80B9-BC54-47A6-A0D0-6AB30ECAA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407B-FD2B-4A5A-8098-2BE5502EB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9E12-ECAE-463C-B943-EE41D95C4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F0A-3A0C-4D8F-B412-68412A65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A22-2B7F-4AFA-A7AC-49C5853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A68-65E5-4EFF-8E6B-5792A923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9C5-A33A-4304-8BEF-11870E46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427-C5D0-4471-BFCA-1CAC938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AD1-CB05-44AE-9661-356056B0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FCD-5AC8-4CBE-A1F5-AE56956E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886-D1D7-486A-8F15-0DEA68C5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C8A-8634-4747-ABEB-6943C5E9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54A-22BA-4CB9-A3E2-61EB136E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CBD-4302-4966-86E4-8461827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A2E-4FBA-4B53-A58D-F54DC7C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0708-42E5-4034-BC4E-5B686781C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01b Review (Warm U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 of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905120" y="2514600"/>
            <a:ext cx="49528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3716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638680" y="2514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733920" y="33526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33720" y="4800600"/>
            <a:ext cx="48006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048120" y="4343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8380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x -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rmula used to find the volume of a cyl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v if r = 3 and h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h if V = 312 and r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1219320" y="457200"/>
                <a:ext cx="2222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=Õ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 for 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 for 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619280" y="1263600"/>
                <a:ext cx="1814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422360" y="3733920"/>
                <a:ext cx="2718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C Review: 1.0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Solving with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ice is building a rectangular garden.  Her garden will be next to an existing 12 foot fence.  She has a total of 44 feet of fencing to build the other three sides.  What will be the dimensions of her gar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1981080" y="2057400"/>
            <a:ext cx="3962520" cy="1523880"/>
          </a:xfrm>
          <a:prstGeom prst="triangle">
            <a:avLst>
              <a:gd name="adj" fmla="val 23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909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3526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895480" y="205740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905120" y="2362320"/>
            <a:ext cx="510516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20968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64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143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1911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u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an be used to find a term in a geometric sequence, where a is the first term, r is the common ratio of the terms and n is the ordinal number of the term.  What is the sixth term in the sequence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, 30, 10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971800" y="380880"/>
                <a:ext cx="2558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·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x, a, w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990720" y="2286000"/>
                <a:ext cx="67816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w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consecutive integers whose sum is 1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ree consecutive odd integers is -249.  Find the inte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5:46:58Z</dcterms:created>
  <dc:creator>Sharon Fieldman</dc:creator>
  <dc:description/>
  <dc:language>en-US</dc:language>
  <cp:lastModifiedBy>sfieldman</cp:lastModifiedBy>
  <dcterms:modified xsi:type="dcterms:W3CDTF">2011-05-02T15:05:09Z</dcterms:modified>
  <cp:revision>16</cp:revision>
  <dc:subject/>
  <dc:title>1.01b Review</dc:title>
</cp:coreProperties>
</file>